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342-1C10-4F80-BCDE-3ADD1891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C86-6026-48C4-A2C5-842FD1F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858-890D-4446-BBFB-949EBDB0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049-010E-4598-B2DB-134E1A45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91D-1ECA-467E-819A-B2E3EC90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E72-0224-4FBC-8A38-430AD812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F09-D82A-454F-83CE-16C8D54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9DE-5F4E-4076-9479-84355DA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4ED-1568-4BA3-B1F1-CD5A36A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B40-81CE-43BD-928E-B514954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249-CD36-4403-83D5-B04F62A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02C-8A7A-4BFA-A017-4C9A30F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9891-340E-461B-8E86-54AE7BBC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lbournestorm.com.au/default.a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3962520" cy="55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908360" y="3068640"/>
            <a:ext cx="561672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GREG INGLIS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237360"/>
            <a:ext cx="3816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Y MATT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elb_storm_logo" descr="Melbourne Storm Rugby League Clu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941720"/>
            <a:ext cx="142884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ive-eighth option... Greg Inglis"/>
          <p:cNvPicPr/>
          <p:nvPr/>
        </p:nvPicPr>
        <p:blipFill>
          <a:blip r:embed="rId1"/>
          <a:stretch/>
        </p:blipFill>
        <p:spPr>
          <a:xfrm>
            <a:off x="900000" y="1700280"/>
            <a:ext cx="2581560" cy="388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5950080"/>
            <a:ext cx="3313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ING STATE OF O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765000"/>
            <a:ext cx="40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ATE OF ORIGA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284720" y="2708280"/>
            <a:ext cx="3960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10x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5948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1280" y="6165720"/>
            <a:ext cx="41767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ING FOR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476280"/>
            <a:ext cx="55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STRA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1922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24000" y="404640"/>
            <a:ext cx="48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S CARE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229360"/>
            <a:ext cx="6264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ed in a grand fina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 played for Australia when he was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 won the Clive Churchill medal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_229781_1_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696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55:55Z</dcterms:created>
  <dc:creator>Reservoir District Secondary College</dc:creator>
  <dc:description/>
  <dc:language>en-US</dc:language>
  <cp:lastModifiedBy>Reservoir District Secondary College</cp:lastModifiedBy>
  <dcterms:modified xsi:type="dcterms:W3CDTF">2008-07-17T02:42:52Z</dcterms:modified>
  <cp:revision>6</cp:revision>
  <dc:subject/>
  <dc:title>Slide 1</dc:title>
</cp:coreProperties>
</file>